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71B-E1FA-4FA8-83ED-044259A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281-B721-4CF4-83A5-8D0B2E69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8E2-624B-4B82-AC82-A1CF540C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4AC-CEFE-462A-9D7C-8E077A81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C4C-4853-4973-BBDB-8F54267F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FD3-0FC9-4D47-9C14-B500ED5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6BF-2261-4B34-B96B-1ECA2FA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7C2-215D-40C1-8CD3-4F5B4842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669-6430-43CA-9BA7-E5DAACB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AB9-DF16-4C31-8414-73D62981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A47-6C6B-4841-A1F1-A400819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278-2505-4A4D-9CF7-3F45912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C22E-78B6-401D-A134-244498F8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12handhelds.com/101list.php" TargetMode="External"/><Relationship Id="rId2" Type="http://schemas.openxmlformats.org/officeDocument/2006/relationships/hyperlink" Target="http://www.k12handhelds.com/101list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6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rm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809280"/>
            <a:ext cx="8229600" cy="3305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ease get out a piece of scrap paper and a pencil or p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e 2 bulleted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students should do with Handh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students should NOT do with Handh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s" descr=""/>
          <p:cNvPicPr/>
          <p:nvPr/>
        </p:nvPicPr>
        <p:blipFill>
          <a:blip r:embed="rId1">
            <a:alphaModFix amt="43000"/>
          </a:blip>
          <a:stretch/>
        </p:blipFill>
        <p:spPr>
          <a:xfrm rot="1848000">
            <a:off x="7695720" y="4571640"/>
            <a:ext cx="117648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62120" y="4267080"/>
          <a:ext cx="6705360" cy="24714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tudents should do with Handh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tudents should NOT do with Handh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6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ta Input Dir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790200"/>
            <a:ext cx="8200800" cy="5915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tleman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raff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 sett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 on r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raff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 |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tleman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actice writing with Graffiti and soft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s" descr=""/>
          <p:cNvPicPr/>
          <p:nvPr/>
        </p:nvPicPr>
        <p:blipFill>
          <a:blip r:embed="rId1">
            <a:alphaModFix amt="43000"/>
          </a:blip>
          <a:stretch/>
        </p:blipFill>
        <p:spPr>
          <a:xfrm rot="1848000">
            <a:off x="6019560" y="3962520"/>
            <a:ext cx="1176120" cy="167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Wrap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solidFill>
            <a:srgbClr val="1d4245"/>
          </a:solidFill>
          <a:ln w="5724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71440" y="123480"/>
            <a:ext cx="86104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101 Handheld Uses – Student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k12handhelds.com/101list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68280"/>
            <a:ext cx="4267080" cy="544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nguage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an 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 an ebook and share it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 group wri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ok up a word in a thesau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a foreign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k up a word in 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concep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 vocabulary through wor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your reading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about the latest current ev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part in a collaborativ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lculatio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e multiplicat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, visualize, and solve equ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and tabulate g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95840" y="1262160"/>
            <a:ext cx="4191120" cy="544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ative Skills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and compos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 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ud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notes in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 out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voic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for a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ed Ski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 students turn in an assignment electron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flash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 and us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e on a graphic orga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320" y="1014480"/>
            <a:ext cx="90676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ndheld Unit: Introduction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day we will master 3 Objectives to use Handhelds in the class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 Prepared to Learn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oday’s Handheld lessons (3 Objectives), you will be much more successful with tomorrow’s Handheld less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ke Good Choices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are not able to cooperate when using the Handhelds, you will not have the privilege of using th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Respect to Others, Self and Property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 your classmates… Respect your learning… Respect Handheld equi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lcome! 5-31-06 – Mrs. Castleman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24880" cy="3581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develop classroom rules for Handhel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hel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hel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on’t drop Handhel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Stay in your seat while you have the Handhe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o not use any kind of pencil or pen on the screen other than a styl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ake sure the stylus is in the hol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t the end of class, power off and put it back on the c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8280" y="1600200"/>
            <a:ext cx="777240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learn to use the Handheld operating system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held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47800"/>
            <a:ext cx="8229600" cy="53337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held Use Agre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Handhelds – always use the same number Handheld assigned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n and expl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E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your own until notifi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our –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affe – Data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held Quick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lid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creen Rotation: mentioned 2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us Bar: Batter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t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raffit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boar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fiti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to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tters, Numbers, Capital Letters, Punctuation, Graffiti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8280" y="1600200"/>
            <a:ext cx="777240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learn to input data using a Handheld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0:42:30Z</dcterms:created>
  <dc:creator>BCPS</dc:creator>
  <dc:description/>
  <dc:language>en-US</dc:language>
  <cp:lastModifiedBy>FCPS</cp:lastModifiedBy>
  <dcterms:modified xsi:type="dcterms:W3CDTF">2006-05-30T18:37:48Z</dcterms:modified>
  <cp:revision>135</cp:revision>
  <dc:subject/>
  <dc:title>Drill</dc:title>
</cp:coreProperties>
</file>